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703-90E5-48F5-8D90-3A1091A1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446-61C0-4F44-BE04-6B667DA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995-C84A-48A6-BCB8-4931F86C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D46-8292-42EE-8A68-054CB43A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6DD-530E-4018-8D43-EC121D8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11D-B389-49FD-8DB6-4919067B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84A-DCF7-4C99-9BC3-1E709363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600-8806-4A73-A61E-F0338049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A2C-6425-4ABB-AC52-064115DE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B3F-0FC9-4B43-B111-D7579B3F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2DD-09FC-44E6-924E-2C08C33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55C-2F9E-41CD-8562-FBD9C8F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38A-8B4F-43C6-B0BF-AC83346FA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Preposi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ctober 6, 200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685800" y="228600"/>
            <a:ext cx="7848720" cy="6413400"/>
            <a:chOff x="685800" y="228600"/>
            <a:chExt cx="7848720" cy="6413400"/>
          </a:xfrm>
        </p:grpSpPr>
        <p:pic>
          <p:nvPicPr>
            <p:cNvPr id="61" name="Picture 2" descr=""/>
            <p:cNvPicPr/>
            <p:nvPr/>
          </p:nvPicPr>
          <p:blipFill>
            <a:blip r:embed="rId1"/>
            <a:stretch/>
          </p:blipFill>
          <p:spPr>
            <a:xfrm>
              <a:off x="2590920" y="1447920"/>
              <a:ext cx="4190760" cy="51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3"/>
            <p:cNvSpPr/>
            <p:nvPr/>
          </p:nvSpPr>
          <p:spPr>
            <a:xfrm>
              <a:off x="685800" y="228600"/>
              <a:ext cx="784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Where is the elephant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371600" y="254160"/>
            <a:ext cx="647712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5257800"/>
            <a:ext cx="91440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elephant is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Times New Roman"/>
              </a:rPr>
              <a:t>   under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Times New Roman"/>
              </a:rPr>
              <a:t>   the__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question mark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2480" y="5943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GREAT JOB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ursery Language Arts Workbook Revised Edition 19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JJSRdIL158?version=3&amp;hl=en_US&amp;rel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What is the little boy blue suppose to do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24379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ittle boy blue is suppose to blow his hor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ontent Placeholder 4" descr="200px-Denslow-little-boy-blue2.jpg"/>
          <p:cNvPicPr/>
          <p:nvPr/>
        </p:nvPicPr>
        <p:blipFill>
          <a:blip r:embed="rId1"/>
          <a:stretch/>
        </p:blipFill>
        <p:spPr>
          <a:xfrm>
            <a:off x="4952880" y="2362320"/>
            <a:ext cx="373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Where did the little boy blue fall asleep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21333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ittle boy blue fell asleep under the haystac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ntent Placeholder 4" descr="boyblue1edlee.jpg"/>
          <p:cNvPicPr/>
          <p:nvPr/>
        </p:nvPicPr>
        <p:blipFill>
          <a:blip r:embed="rId1"/>
          <a:stretch/>
        </p:blipFill>
        <p:spPr>
          <a:xfrm>
            <a:off x="4876920" y="2514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What is a Prepositio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eposi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ells th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osi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of an objec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yszemY8Pl8?version=3&amp;hl=en_US&amp;rel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x8i-Wq_jtc?version=3&amp;hl=en_US&amp;rel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"/>
          <p:cNvGrpSpPr/>
          <p:nvPr/>
        </p:nvGrpSpPr>
        <p:grpSpPr>
          <a:xfrm>
            <a:off x="1143000" y="304920"/>
            <a:ext cx="7086600" cy="6350040"/>
            <a:chOff x="1143000" y="304920"/>
            <a:chExt cx="7086600" cy="635004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7086600" cy="52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1143000" y="304920"/>
              <a:ext cx="678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Where is the house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14400" y="590400"/>
            <a:ext cx="739152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09680" y="152280"/>
            <a:ext cx="4449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472428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use is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on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the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3:39:42Z</dcterms:created>
  <dc:creator>Pamela Marie Buzby</dc:creator>
  <dc:description/>
  <dc:language>en-US</dc:language>
  <cp:lastModifiedBy>user</cp:lastModifiedBy>
  <cp:lastPrinted>2003-04-30T03:29:45Z</cp:lastPrinted>
  <dcterms:modified xsi:type="dcterms:W3CDTF">2012-10-01T09:41:56Z</dcterms:modified>
  <cp:revision>33</cp:revision>
  <dc:subject/>
  <dc:title>Prepositions</dc:title>
</cp:coreProperties>
</file>